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0374-81B0-4AD8-A64F-152291CDD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6D14-7F12-43CC-9D80-437A09BA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3AB2-ED5C-48F4-AAE5-DD18BED22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B229-08EB-4A22-B7E0-8938926C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F99A-683E-4662-9632-2C6D7964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A9EF-1A56-4B8B-8D01-449E2D7E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4C93-03A0-4B13-9682-E4C02AB1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94A5-6233-43EB-8B2D-6E7CF4D2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B24D-9728-4C2E-97F8-BF63391A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3E42-948A-44A7-A9E8-8B18E778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F838-0DE8-48F4-A58A-24181950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40E2-C0FA-4573-8384-0D9A0C74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FA3F-BD0A-472F-8095-D8CFCBE5A3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*</a:t>
            </a:r>
            <a:br>
              <a:rPr sz="2800"/>
            </a:br>
            <a:r>
              <a:rPr b="1" i="1" lang="en-GB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Latest developments in the EU legislation concerning financial sector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8th edition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Brussels, 9 December 2004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576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33920" y="76320"/>
            <a:ext cx="1752480" cy="1349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14600" y="1447920"/>
            <a:ext cx="4191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FEDERATION BANCAIRE DE L’UNION EUROPEE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ANKING FEDERATION OF THE EUROPEAN UNION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commendation on Directors remunera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commendation was adopted by the European Commission on 6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should ensure that listed companies disclose their policy on directors’ remunera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ites to adopt measures in four are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remuneration polic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hareholders meeting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isclosure of the remuneration of individual director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pproval of share and share option schem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commendation on role of independent Directo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commendation was adopted by the European Commission on 6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have been invited to reinforce the presence and role of independent non-executive directors on listed companies’ boar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ntion to protect shareholders, employees and the public against potential conflicts of interest by an independent check on management deci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ategy to prevent financial and corporate malpractic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137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dopted by the European commission on 30 Sept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co-ordinated action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financial servic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company la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ccounting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tax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upervision and enforcement areas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ategy to prevent financial and corporate malpractic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137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policy initiatives in taxation and law enforcement field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y elements 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enhanced transparenc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improved traceabilit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better co-ordinated enforc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apital requirements framework for banks and investment firm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apital requirements framework for banks and investment firm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date of the anti-money laundering Directive (June 2004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384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5. Proposed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rective to amend the Second Company law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for a Directive was presented by the European Commission on 29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posed Directive, once adopted,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plify the formation, maintenance and alteration of companies’ capital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end the related parts of the Second Company law Direct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is proposal is a part of Commission’s Action Plan on Company Law and Corporate Govern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384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0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ur key revisions of the EU’s Accounting Directives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8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 key revis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ablish that board members are collectively responsible for financial statements and key non-financial inform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e unlisted companies’ transactions with related parties more transparen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e that all companies provide full information about off-balance sheet arrangement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e listed companies issue an annual “corporate governance statement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4978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w Capital requirements framework for banks and investment firm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353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14 July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posal is aimed a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ing the coherent application throughout the EU of the new international capital requirements framework recently agreed by the Basel Committee (BASEL II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ing sure that financial institutions capital is more closely aligned with the risks they fac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hancing consumer protec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inforcing the financial stabil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8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pdate of the anti-money laundering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353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30 June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posal, once adopted,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pdate and improve the EU’s existing anti-money laundering Directiv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iden the scope of the Directiv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nsure the coherent application in all Member States of the latest Recommendations of the FAT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94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shareholders’ rights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94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shareholders’ rights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l to CESR for technical advise on possible measures concerning the credit rating agencie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80520"/>
            <a:ext cx="7842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9. Consultatio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on Basic shareholders’ right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8785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by the European Commission on 16 Sept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in issu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cilitating the exercise of basic shareholders’ rights in company general meeting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ving the problems in cross-border exercise of such righ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osal for a Directive has been consider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adline for the responses – 16 December 200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80520"/>
            <a:ext cx="7842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0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all to CESR for technical advise on possible measures concerning the credit rating agencie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2349000"/>
            <a:ext cx="8610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European commission has provided the CESR with a call for technical advice on 5 July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 core issues to be address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tential conflicts of interests within rating agenci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arency of rating agencies’ methodologi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gal treatment of rating agencies’ access to inside inform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erns about possible lack of competition in the market for provision of credit rating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equested deadline for delivery of advice is 1 April 200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ank you for your atten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1600200" cy="1506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886200" y="5257800"/>
            <a:ext cx="1157400" cy="129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2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the role of independent non-executive director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the role of independent non-executive director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tegy to prevent financial and corporate malpractice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endorsing IAS 39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gulation was adopted on 19 Nov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endorses the IAS 39 on financial instruments (Recognition and measurement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rtain provisions on the use of the full fair value option and on hedge accounting are excluded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be legally binding from 1 Januar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1:39:59Z</dcterms:created>
  <dc:creator>Fédération Bancaire</dc:creator>
  <dc:description/>
  <dc:language>en-US</dc:language>
  <cp:lastModifiedBy>AlparslanM</cp:lastModifiedBy>
  <dcterms:modified xsi:type="dcterms:W3CDTF">2004-12-15T13:56:13Z</dcterms:modified>
  <cp:revision>479</cp:revision>
  <dc:subject/>
  <dc:title>PROPOSED AMENDMENTS AND LATEST CHANGES IN THE EU DIRECTIVES FOR THE FINANCIAL SECTOR </dc:title>
</cp:coreProperties>
</file>